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1BB-CE10-4BE6-B8EC-B55844F8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6B5-3774-4FC2-A22C-7595FE8D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D7D-C4E9-422A-83D0-1E47B095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7B7-4F0C-41E3-A825-554327D2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1D0-449C-4674-BC23-FA1F3E3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D9A-F0BD-4959-AF98-2385136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6F4-B6FF-4B52-93D9-B47B1EE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B21-52E6-410D-8E81-1377EEF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DC6-41AC-4567-8576-DFA94763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027-62EC-44FD-AB6E-F68671A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3FF-72C6-4977-82E6-56B178B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D28-5BC8-42A9-9115-926510D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B54-84A0-40DA-88C6-8926093DE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Lucida Calligraphy"/>
              </a:rPr>
              <a:t>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ligious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Religious 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1:41Z</dcterms:created>
  <dc:creator>student</dc:creator>
  <dc:description/>
  <dc:language>en-US</dc:language>
  <cp:lastModifiedBy>student</cp:lastModifiedBy>
  <dcterms:modified xsi:type="dcterms:W3CDTF">2012-06-01T16:43:26Z</dcterms:modified>
  <cp:revision>2</cp:revision>
  <dc:subject/>
  <dc:title>Afghanistan </dc:title>
</cp:coreProperties>
</file>